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47DE-24A5-4098-BBFD-B4B3DC50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029-02C1-4B75-A5AA-B0FB2C1A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F62-18E4-4A1F-B35F-2010F348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1B7-00EC-4AAB-9E49-88382D57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C93-6F4C-4520-B2D2-1A0B74E6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1129-4BCE-460F-A390-86DEAC89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6A1-9E8E-4EC7-A005-49FB4E8C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110-6047-46CE-B120-3D6710CB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C80D-B74B-49FF-87CC-DD494827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7AA-2510-4718-8433-6AF3F0FF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C71-37C2-4C6D-8085-952C56A5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5BC-EE5C-4249-B974-871E9CC6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06F2-0364-455B-9CD3-D220F90CA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http://web.mit.edu/invent/iow/crayons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62720" y="46483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38880" y="5257800"/>
            <a:ext cx="1752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7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#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228600"/>
            <a:ext cx="74674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Kristen ITC"/>
              </a:rPr>
              <a:t>Crayo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Kristen ITC"/>
              <a:ea typeface="Kristen ITC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00600" y="3657600"/>
            <a:ext cx="235116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458200" y="5257800"/>
            <a:ext cx="36504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bf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Crayon box"/>
          <p:cNvPicPr/>
          <p:nvPr/>
        </p:nvPicPr>
        <p:blipFill>
          <a:blip r:embed="rId1"/>
          <a:stretch/>
        </p:blipFill>
        <p:spPr>
          <a:xfrm>
            <a:off x="228600" y="380988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Hoop boy"/>
          <p:cNvPicPr/>
          <p:nvPr/>
        </p:nvPicPr>
        <p:blipFill>
          <a:blip r:embed="rId2"/>
          <a:stretch/>
        </p:blipFill>
        <p:spPr>
          <a:xfrm>
            <a:off x="6477120" y="304920"/>
            <a:ext cx="228600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Binney &amp; Smith"/>
          <p:cNvPicPr/>
          <p:nvPr/>
        </p:nvPicPr>
        <p:blipFill>
          <a:blip r:embed="rId3"/>
          <a:stretch/>
        </p:blipFill>
        <p:spPr>
          <a:xfrm>
            <a:off x="0" y="0"/>
            <a:ext cx="5105520" cy="2124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76920" y="4876920"/>
            <a:ext cx="4114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dward Binney &amp; Harold Sm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11, 20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eb.mit.edu/invent/iow/crayo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5909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297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f the Crayola Crayons in the world could circle around the world 4 tim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7848720" y="4724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ray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n 1903, the first yellow and green box of eight “crayola” crayons appeared, they were an overnight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n 1962 the color “flesh” was changed to the name peach because not everybody's skin color is that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n 1972, fluorescent colors were added to the box of cray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n February 6, 1996 they produced their 100 billionth Crayola cray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re is now 102 crayons in some boxes of crayons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Inventor: Edward Binney &amp; Harold Sm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Edwin Binney &amp;Harold Smith founded Binney &amp; Smi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Inc in New York in the late 1800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At first they specialized in industrial colo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At the St.Louis world exhibition in 1902, they won a gold medal for the first dustless cha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On February 6, 1996 they produced their billionth cray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31:24Z</dcterms:created>
  <dc:creator>install</dc:creator>
  <dc:description/>
  <dc:language>en-US</dc:language>
  <cp:lastModifiedBy>install</cp:lastModifiedBy>
  <dcterms:modified xsi:type="dcterms:W3CDTF">2011-01-14T16:55:14Z</dcterms:modified>
  <cp:revision>8</cp:revision>
  <dc:subject/>
  <dc:title>Slide 1</dc:title>
</cp:coreProperties>
</file>